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0690024"/>
        <c:axId val="85774894"/>
      </c:barChart>
      <c:catAx>
        <c:axId val="2069002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5774894"/>
        <c:crosses val="autoZero"/>
        <c:auto val="1"/>
        <c:lblAlgn val="ctr"/>
        <c:lblOffset val="100"/>
        <c:noMultiLvlLbl val="0"/>
      </c:catAx>
      <c:valAx>
        <c:axId val="8577489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069002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18BE5-E9A2-4CCE-A83A-E4C46B261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67DFB-04EC-4552-B1B5-2E88833FB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99939-137B-4BAC-9EC5-8798AB9B5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B1812-EAB1-4299-8401-2B9882826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D9C2E-0B3B-45D2-946E-843648326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99706-3CF7-402A-A169-9D51778F4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FA67D-58B5-4DF4-8DC2-69AA0160A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B6FF1-8D9C-49E9-A016-062BFD9D1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F4AE8-2B3A-4B86-AE0E-D9CC460F3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BB7CE-F158-4D93-9841-26714E0C4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C92F0-4215-4A08-A7A7-3965F57EE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C36D6-145B-4EBB-BCCD-722D6779C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2C9B3-4536-41E7-AF66-6DF084364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9E30B-CB37-491E-BB07-9940D8763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28424-9EBD-475D-987D-2A5433B20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1DD8C-6E11-475F-85FD-3F6B2EB09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CC760-C77B-4D7A-8E07-BA1CDA499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DDCD-5B7F-46F7-97EC-A84F2DDE2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ECBC8-43C2-457E-BC37-56B1EEA6A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D58B9-AB6E-42D0-99E9-CF6F127F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67977-3024-4F2D-9C11-C1D78C4F1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29C7-0FDC-4C15-8CE5-61096834E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1A30D-1CE7-409C-8080-312775BA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413C-6E1E-4DF4-B2A9-9E4B035F9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04A0E8-FF3A-4C71-AA31-5163633C239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1D0442-78B5-4B46-AD8F-302A8D24410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